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FAD6-B698-419B-801F-E2BF51E0F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F9AB-01F3-4182-B97E-188B0F1F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AE66-FDDF-4C0D-9CCA-E8319542F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869E-BA9A-4A53-B41B-55EE8F1AB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49A3-7E6D-4657-BC9D-F5D34686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093B-08EA-46C4-8D4C-768D11DE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8121-EEE2-4356-9965-953C7E9E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9BC4-F6BA-412D-810A-A6FD6A75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F94F-DF10-4019-976C-5D24F290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EF8B-8EE1-4292-B6B9-F75214AC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7612-4862-46C2-9AA8-6F9DBCBC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908A-FE94-464D-9E04-9F7D1DE4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A5BC-C258-43C7-987E-39CE6B19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6DBF-FAE1-4F9E-A450-660A6651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80EF-4CDD-456D-B186-97C1D958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7642-E0FF-4B1E-8695-48317E42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CB86-06A5-4B32-A8B8-B0B66078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8D574-B7EB-43B0-9146-89DF904E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31772-872C-4B29-B93A-160BC477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AE70D-617E-40D0-9B71-A09778B8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90B14-1897-45CB-A3E7-2ED1E668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7D8C7-6B24-4B1C-A384-3F08FAF8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B2BC-5AE2-444F-8F80-4F3DA3F6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E9D14-3242-46A3-9506-9315A74F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25F74-7045-4B0F-A7C7-5DBF3212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64CC9-EF77-4513-B79E-EC165629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32916-0BB0-4798-9670-54769905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39121-CC9D-421F-9AF0-39C68B99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987BE-BD50-4F6E-87E1-760742D5B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D4A58-F11A-459F-9B52-B81C7A02D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3851-2C3A-4764-8A5B-34A5CEF9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6073-E98A-46AB-8432-BE53A905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1248-FC29-42FB-B1DF-0C615B49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D1E9-1B04-4D86-A671-632E927C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B162-91D2-4D4E-B169-5DCC1B07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32BC-10E7-471E-ADCD-5FED7EB8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A068-BA1D-41BD-A152-6AFD276F6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Клиничка фармација 1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0F85-C759-4182-A808-7EB290621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457200" y="1062000"/>
            <a:ext cx="8229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фармациј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3F9A-08F2-41AD-B546-1DB90541C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99ED-ACBE-4A1B-8010-A26908B76A6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225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sr-Latn-CS" sz="3600" spc="-1" strike="noStrike">
                <a:solidFill>
                  <a:srgbClr val="000066"/>
                </a:solidFill>
                <a:latin typeface="Verdana"/>
              </a:rPr>
              <a:t>Интеракције лекова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7"/>
          <p:cNvSpPr/>
          <p:nvPr/>
        </p:nvSpPr>
        <p:spPr>
          <a:xfrm>
            <a:off x="1447920" y="106668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828800" y="914400"/>
            <a:ext cx="54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фармациј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линичка фармација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авање бр.9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10" descr="http://www.fotosearch.com/comp/UNY/UNY477/114-55105.jpg"/>
          <p:cNvPicPr/>
          <p:nvPr/>
        </p:nvPicPr>
        <p:blipFill>
          <a:blip r:embed="rId2"/>
          <a:stretch/>
        </p:blipFill>
        <p:spPr>
          <a:xfrm>
            <a:off x="3200400" y="3733920"/>
            <a:ext cx="2743200" cy="1295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2FF0-10F9-47E5-9C5D-92A37413814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400" spc="-1" strike="noStrike">
                <a:solidFill>
                  <a:srgbClr val="000099"/>
                </a:solidFill>
                <a:latin typeface="Verdana"/>
              </a:rPr>
              <a:t>A+B - адитиван  </a:t>
            </a:r>
            <a:br>
              <a:rPr sz="3400"/>
            </a:br>
            <a:r>
              <a:rPr b="1" lang="sr-Latn-CS" sz="3400" spc="-1" strike="noStrike">
                <a:solidFill>
                  <a:srgbClr val="000099"/>
                </a:solidFill>
                <a:latin typeface="Verdana"/>
              </a:rPr>
              <a:t>A+C - потенцирајућ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Object 3"/>
          <p:cNvGraphicFramePr/>
          <p:nvPr/>
        </p:nvGraphicFramePr>
        <p:xfrm>
          <a:off x="533520" y="1752480"/>
          <a:ext cx="8127720" cy="421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127720" cy="42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BC91-1CFD-4AFD-AD9B-8E65D137189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800" spc="-1" strike="noStrike">
                <a:solidFill>
                  <a:srgbClr val="000066"/>
                </a:solidFill>
                <a:latin typeface="Verdana"/>
              </a:rPr>
              <a:t>Типови антагонизм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Хемијс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Фармакодинамски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компетитивни (реверзибилни и иреверзибилни) 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некомпетитив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Фармакокинетич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Физиолош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5B8B-F70C-491F-889F-57682EC1827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6094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Интеракције пре примене</a:t>
            </a:r>
            <a:r>
              <a:rPr b="1" lang="sr-Latn-CS" sz="3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Фенитоин преципитира у раствору глукоз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Амфотерицин преципитира у физиолошком раствор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Гентамицин је инкомпатибилан са већином бета-лактамских антибиотика</a:t>
            </a:r>
            <a:r>
              <a:rPr b="0" lang="sr-Latn-CS" sz="3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6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13B0-06D8-4404-9FEA-343E10FF313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У дигестивном тракту</a:t>
            </a:r>
            <a:r>
              <a:rPr b="0" lang="sr-Latn-C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9900ff"/>
                </a:solidFill>
                <a:latin typeface="Verdana"/>
              </a:rPr>
              <a:t>сукралфат, неки млечни производи, антациди, препарати гвожђа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66"/>
                </a:solidFill>
                <a:latin typeface="Verdana"/>
              </a:rPr>
              <a:t>омепразол, лансомепразол,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H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sr-Latn-CS" sz="2000" spc="-1" strike="noStrike">
                <a:solidFill>
                  <a:srgbClr val="000066"/>
                </a:solidFill>
                <a:latin typeface="Verdana"/>
              </a:rPr>
              <a:t>блокатор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66"/>
                </a:solidFill>
                <a:latin typeface="Verdana"/>
              </a:rPr>
              <a:t>диданозин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66"/>
                </a:solidFill>
                <a:latin typeface="Verdana"/>
              </a:rPr>
              <a:t>холестирами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9900ff"/>
                </a:solidFill>
                <a:latin typeface="Verdana"/>
              </a:rPr>
              <a:t>Блокирају апсорпцију хинолона, татрациклина и азитромицина</a:t>
            </a:r>
            <a:r>
              <a:rPr b="0" lang="sr-Latn-CS" sz="2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66"/>
                </a:solidFill>
                <a:latin typeface="Verdana"/>
              </a:rPr>
              <a:t>Смањују апсорпцију кетоконазо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66"/>
                </a:solidFill>
                <a:latin typeface="Verdana"/>
              </a:rPr>
              <a:t>Смањује апсорпцију кетоконазол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66"/>
                </a:solidFill>
                <a:latin typeface="Verdana"/>
              </a:rPr>
              <a:t>Везује ралоксифен, тироидни хормон и дигокси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3962520" y="2209680"/>
            <a:ext cx="609480" cy="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Line 6"/>
          <p:cNvSpPr/>
          <p:nvPr/>
        </p:nvSpPr>
        <p:spPr>
          <a:xfrm>
            <a:off x="3886200" y="3657600"/>
            <a:ext cx="6094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3962520" y="4800600"/>
            <a:ext cx="53316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Line 9"/>
          <p:cNvSpPr/>
          <p:nvPr/>
        </p:nvSpPr>
        <p:spPr>
          <a:xfrm>
            <a:off x="3886200" y="5562720"/>
            <a:ext cx="6094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187D-5322-4CD5-970F-4CB1178D13F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Могуће последице метаболизма ле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66280" y="22860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Инактивни продук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Активни метаболити – слично самом лек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Метаболит активнији од примењеног –главног лек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Ново дејство метаболита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Токсични метаболи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BD35-5778-49B0-A789-621F321F20A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Verdana"/>
              </a:rPr>
              <a:t>Интеракције лекова- </a:t>
            </a:r>
            <a:br>
              <a:rPr sz="2400"/>
            </a:br>
            <a:r>
              <a:rPr b="1" lang="sr-Latn-CS" sz="2400" spc="-1" strike="noStrike">
                <a:solidFill>
                  <a:srgbClr val="000099"/>
                </a:solidFill>
                <a:latin typeface="Verdana"/>
              </a:rPr>
              <a:t>последица метаболизма у јетр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Најчешће су последица интеракција са ензимима у Фази </a:t>
            </a:r>
            <a:r>
              <a:rPr b="0" lang="sr-CS" sz="3000" spc="-1" strike="noStrike">
                <a:solidFill>
                  <a:srgbClr val="000099"/>
                </a:solidFill>
                <a:latin typeface="Verdana"/>
              </a:rPr>
              <a:t>1</a:t>
            </a: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И то најчешће су интеракције са цитохтом П450 ензимима .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Нежељене реакције се јављају и у случају генетског недостатка ових ензим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D662-B7F3-4339-A0DD-7BFA04B4864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Verdana"/>
              </a:rPr>
              <a:t>Ц</a:t>
            </a:r>
            <a:r>
              <a:rPr b="1" lang="sr-Latn-CS" sz="3800" spc="-1" strike="noStrike">
                <a:solidFill>
                  <a:srgbClr val="000066"/>
                </a:solidFill>
                <a:latin typeface="Verdana"/>
              </a:rPr>
              <a:t>итохром </a:t>
            </a:r>
            <a:r>
              <a:rPr b="1" lang="en-US" sz="3800" spc="-1" strike="noStrike">
                <a:solidFill>
                  <a:srgbClr val="000066"/>
                </a:solidFill>
                <a:latin typeface="Verdana"/>
              </a:rPr>
              <a:t>P450 </a:t>
            </a:r>
            <a:r>
              <a:rPr b="1" lang="sr-Latn-CS" sz="3800" spc="-1" strike="noStrike">
                <a:solidFill>
                  <a:srgbClr val="000066"/>
                </a:solidFill>
                <a:latin typeface="Verdana"/>
              </a:rPr>
              <a:t>из</a:t>
            </a:r>
            <a:r>
              <a:rPr b="1" lang="en-US" sz="3800" spc="-1" strike="noStrike">
                <a:solidFill>
                  <a:srgbClr val="000066"/>
                </a:solidFill>
                <a:latin typeface="Verdana"/>
              </a:rPr>
              <a:t>оформ</a:t>
            </a:r>
            <a:r>
              <a:rPr b="1" lang="sr-Latn-CS" sz="3800" spc="-1" strike="noStrike">
                <a:solidFill>
                  <a:srgbClr val="000066"/>
                </a:solidFill>
                <a:latin typeface="Verdana"/>
              </a:rPr>
              <a:t>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Verdana"/>
              </a:rPr>
              <a:t>CYP1A2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Verdana"/>
              </a:rPr>
              <a:t>CYP3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Verdana"/>
              </a:rPr>
              <a:t>CYP2C9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Verdana"/>
              </a:rPr>
              <a:t>CYP2C19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Verdana"/>
              </a:rPr>
              <a:t>CYP2D6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E73F-E1EF-41BA-9C7A-8BF149A3B34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400" spc="-1" strike="noStrike">
                <a:solidFill>
                  <a:srgbClr val="000099"/>
                </a:solidFill>
                <a:latin typeface="Verdana"/>
              </a:rPr>
              <a:t>Цитохром </a:t>
            </a:r>
            <a:r>
              <a:rPr b="1" lang="en-US" sz="3400" spc="-1" strike="noStrike">
                <a:solidFill>
                  <a:srgbClr val="000099"/>
                </a:solidFill>
                <a:latin typeface="Verdana"/>
              </a:rPr>
              <a:t>P450 3A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Одговоран за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метаболи</a:t>
            </a: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зам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Већине  блокатора к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алци</a:t>
            </a: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ј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ум</a:t>
            </a: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ових канала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Већине бензодиазепина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Већине инхибитора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ХИВ протеа</a:t>
            </a: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з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Већине инхибитора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ХМГ-ЦоА-реду</a:t>
            </a: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ктаз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Ц</a:t>
            </a: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ик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лоспорин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Већине неседативних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антихистамин</a:t>
            </a: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ик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Цисаприд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П</a:t>
            </a: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рисутни у  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ГИ тра</a:t>
            </a: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к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т</a:t>
            </a: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у и јетр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8A06-D9F3-4A21-A4B8-3101E4D9701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CYP3A </a:t>
            </a:r>
            <a:r>
              <a:rPr b="1" lang="sr-CS" sz="38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Инхибитор</a:t>
            </a:r>
            <a:r>
              <a:rPr b="1" lang="sr-Latn-CS" sz="3800" spc="-1" strike="noStrike">
                <a:solidFill>
                  <a:srgbClr val="000099"/>
                </a:solidFill>
                <a:latin typeface="Verdana"/>
              </a:rPr>
              <a:t>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Кето</a:t>
            </a: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к</a:t>
            </a: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оназо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Итра</a:t>
            </a: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к</a:t>
            </a: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оназо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Флу</a:t>
            </a: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к</a:t>
            </a: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оназо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Циметидин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К</a:t>
            </a: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ларитром</a:t>
            </a: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и</a:t>
            </a: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цин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Ер</a:t>
            </a: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и</a:t>
            </a: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тром</a:t>
            </a: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и</a:t>
            </a: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цин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Гр</a:t>
            </a: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еј</a:t>
            </a: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пфрут </a:t>
            </a: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со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5C30-7742-4798-BC21-1801D176BD9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Verdana"/>
              </a:rPr>
              <a:t>CYP3A </a:t>
            </a:r>
            <a:r>
              <a:rPr b="1" lang="sr-CS" sz="3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sr-CS" sz="3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Инду</a:t>
            </a:r>
            <a:r>
              <a:rPr b="1" lang="sr-Latn-CS" sz="3800" spc="-1" strike="noStrike">
                <a:solidFill>
                  <a:srgbClr val="000099"/>
                </a:solidFill>
                <a:latin typeface="Verdana"/>
              </a:rPr>
              <a:t>ктори</a:t>
            </a:r>
            <a:r>
              <a:rPr b="0" lang="sr-Latn-CS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Latn-CS" sz="3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34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К</a:t>
            </a: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арбамазепин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Р</a:t>
            </a: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ифампи</a:t>
            </a: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цин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Ритонавир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Кантарио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52B9-6271-4BA4-B736-17E1542D062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Mеханизам настанк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Врсте интеракциј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Познавање лекова који ступају у</a:t>
            </a:r>
            <a:br>
              <a:rPr sz="2400"/>
            </a:b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интеракције и познавање</a:t>
            </a:r>
            <a:br>
              <a:rPr sz="2400"/>
            </a:b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најосетљивијих група болесни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Препознавање клинички значајних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интеракциј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Предузимање мера за</a:t>
            </a: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избегавање интеракција и давање</a:t>
            </a: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предлога за алтернативни</a:t>
            </a: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фармакотерапијски третма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B391-05A3-40A0-9914-1C0609282C4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Verdana"/>
              </a:rPr>
              <a:t>Ц</a:t>
            </a:r>
            <a:r>
              <a:rPr b="1" lang="sr-Latn-CS" sz="4200" spc="-1" strike="noStrike">
                <a:solidFill>
                  <a:srgbClr val="000099"/>
                </a:solidFill>
                <a:latin typeface="Verdana"/>
              </a:rPr>
              <a:t>и</a:t>
            </a:r>
            <a:r>
              <a:rPr b="1" lang="en-US" sz="4200" spc="-1" strike="noStrike">
                <a:solidFill>
                  <a:srgbClr val="000099"/>
                </a:solidFill>
                <a:latin typeface="Verdana"/>
              </a:rPr>
              <a:t>тохром </a:t>
            </a:r>
            <a:r>
              <a:rPr b="1" lang="sr-CS" sz="4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P450 1A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Verdana"/>
              </a:rPr>
              <a:t>Инду</a:t>
            </a:r>
            <a:r>
              <a:rPr b="1" lang="sr-Latn-CS" sz="2500" spc="-1" strike="noStrike">
                <a:solidFill>
                  <a:srgbClr val="000099"/>
                </a:solidFill>
                <a:latin typeface="Verdana"/>
              </a:rPr>
              <a:t>кује га дим цигарета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000099"/>
                </a:solidFill>
                <a:latin typeface="Verdana"/>
              </a:rPr>
              <a:t>К</a:t>
            </a:r>
            <a:r>
              <a:rPr b="1" lang="en-US" sz="2500" spc="-1" strike="noStrike">
                <a:solidFill>
                  <a:srgbClr val="000099"/>
                </a:solidFill>
                <a:latin typeface="Verdana"/>
              </a:rPr>
              <a:t>атал</a:t>
            </a:r>
            <a:r>
              <a:rPr b="1" lang="sr-Latn-CS" sz="2500" spc="-1" strike="noStrike">
                <a:solidFill>
                  <a:srgbClr val="000099"/>
                </a:solidFill>
                <a:latin typeface="Verdana"/>
              </a:rPr>
              <a:t>и</a:t>
            </a:r>
            <a:r>
              <a:rPr b="1" lang="en-US" sz="2500" spc="-1" strike="noStrike">
                <a:solidFill>
                  <a:srgbClr val="000099"/>
                </a:solidFill>
                <a:latin typeface="Verdana"/>
              </a:rPr>
              <a:t>з</a:t>
            </a:r>
            <a:r>
              <a:rPr b="1" lang="sr-Latn-CS" sz="2500" spc="-1" strike="noStrike">
                <a:solidFill>
                  <a:srgbClr val="000099"/>
                </a:solidFill>
                <a:latin typeface="Verdana"/>
              </a:rPr>
              <a:t>ира </a:t>
            </a:r>
            <a:r>
              <a:rPr b="1" lang="en-US" sz="2500" spc="-1" strike="noStrike">
                <a:solidFill>
                  <a:srgbClr val="000099"/>
                </a:solidFill>
                <a:latin typeface="Verdana"/>
              </a:rPr>
              <a:t>примар</a:t>
            </a:r>
            <a:r>
              <a:rPr b="1" lang="sr-Latn-CS" sz="2500" spc="-1" strike="noStrike">
                <a:solidFill>
                  <a:srgbClr val="000099"/>
                </a:solidFill>
                <a:latin typeface="Verdana"/>
              </a:rPr>
              <a:t>но </a:t>
            </a:r>
            <a:r>
              <a:rPr b="1" lang="en-US" sz="2500" spc="-1" strike="noStrike">
                <a:solidFill>
                  <a:srgbClr val="000099"/>
                </a:solidFill>
                <a:latin typeface="Verdana"/>
              </a:rPr>
              <a:t>метаболи</a:t>
            </a:r>
            <a:r>
              <a:rPr b="1" lang="sr-Latn-CS" sz="2500" spc="-1" strike="noStrike">
                <a:solidFill>
                  <a:srgbClr val="000099"/>
                </a:solidFill>
                <a:latin typeface="Verdana"/>
              </a:rPr>
              <a:t>зам</a:t>
            </a:r>
            <a:r>
              <a:rPr b="1" lang="en-US" sz="2500" spc="-1" strike="noStrike">
                <a:solidFill>
                  <a:srgbClr val="000099"/>
                </a:solidFill>
                <a:latin typeface="Verdana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Тео</a:t>
            </a: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фил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ин</a:t>
            </a: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Имипрамин</a:t>
            </a: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Пропранолол</a:t>
            </a: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К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лозапин</a:t>
            </a: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Verdana"/>
              </a:rPr>
              <a:t>Инхиби</a:t>
            </a:r>
            <a:r>
              <a:rPr b="1" lang="sr-Latn-CS" sz="2500" spc="-1" strike="noStrike">
                <a:solidFill>
                  <a:srgbClr val="000099"/>
                </a:solidFill>
                <a:latin typeface="Verdana"/>
              </a:rPr>
              <a:t>рају га </a:t>
            </a:r>
            <a:r>
              <a:rPr b="1" lang="en-US" sz="2500" spc="-1" strike="noStrike">
                <a:solidFill>
                  <a:srgbClr val="000099"/>
                </a:solidFill>
                <a:latin typeface="Verdana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М</a:t>
            </a: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ноги 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флуоро</a:t>
            </a: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хинолонски 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антибиотиц</a:t>
            </a: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Флуво</a:t>
            </a: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кс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амин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Циметид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A06A-F118-4B5F-B236-7955B6E2547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Verdana"/>
              </a:rPr>
              <a:t>Како болест утиче на деловање лека ?                                             Интеракција лекова и боле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66280" y="2184480"/>
            <a:ext cx="80010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Verdana"/>
              </a:rPr>
              <a:t>Болести јетр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Verdana"/>
              </a:rPr>
              <a:t>Болести бубрега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Verdana"/>
              </a:rPr>
              <a:t>Болести срца </a:t>
            </a:r>
            <a:r>
              <a:rPr b="0" lang="ru-RU" sz="2600" spc="-1" strike="noStrike">
                <a:solidFill>
                  <a:srgbClr val="000099"/>
                </a:solidFill>
                <a:latin typeface="Verdana"/>
              </a:rPr>
              <a:t>(↓</a:t>
            </a:r>
            <a:r>
              <a:rPr b="0" lang="sr-Latn-CS" sz="2600" spc="-1" strike="noStrike">
                <a:solidFill>
                  <a:srgbClr val="000099"/>
                </a:solidFill>
                <a:latin typeface="Verdana"/>
              </a:rPr>
              <a:t>проток крви кроз јетру </a:t>
            </a:r>
            <a:r>
              <a:rPr b="0" lang="ru-RU" sz="26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Verdana"/>
              </a:rPr>
              <a:t>Инфаркт миокарда </a:t>
            </a: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Verdana"/>
              </a:rPr>
              <a:t>Акутна вирусна инфекција</a:t>
            </a: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Verdana"/>
              </a:rPr>
              <a:t>Хипотироидизам или хипертироидизам</a:t>
            </a: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D5F5-BE61-4292-A466-5052FB44038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800" spc="-1" strike="noStrike">
                <a:solidFill>
                  <a:srgbClr val="000099"/>
                </a:solidFill>
                <a:latin typeface="Verdana"/>
              </a:rPr>
              <a:t>Лек-болест </a:t>
            </a:r>
            <a:r>
              <a:rPr b="1" i="1" lang="sr-CS" sz="3800" spc="-1" strike="noStrike">
                <a:solidFill>
                  <a:srgbClr val="000099"/>
                </a:solidFill>
                <a:latin typeface="Verdana"/>
              </a:rPr>
              <a:t> и</a:t>
            </a:r>
            <a:r>
              <a:rPr b="1" i="1" lang="sr-Latn-CS" sz="3800" spc="-1" strike="noStrike">
                <a:solidFill>
                  <a:srgbClr val="000099"/>
                </a:solidFill>
                <a:latin typeface="Verdana"/>
              </a:rPr>
              <a:t>нтеракције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Велики број обољења јетре ремети њену способност да метаболи</a:t>
            </a:r>
            <a:r>
              <a:rPr b="0" lang="sr-CS" sz="2400" spc="-1" strike="noStrike">
                <a:solidFill>
                  <a:srgbClr val="000099"/>
                </a:solidFill>
                <a:latin typeface="Verdana"/>
              </a:rPr>
              <a:t>ш</a:t>
            </a: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е леков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Степен слабљења функције биотрансформације зависи од тежине </a:t>
            </a:r>
            <a:r>
              <a:rPr b="0" lang="sr-CS" sz="2400" spc="-1" strike="noStrike">
                <a:solidFill>
                  <a:srgbClr val="000099"/>
                </a:solidFill>
                <a:latin typeface="Verdana"/>
              </a:rPr>
              <a:t>и</a:t>
            </a: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 стадијума сваког обољењ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Успорен метаболизам лекова је примећен код цирозе, масне дегенерације јетре, акутног хепатитиса ,карцинома јетрених </a:t>
            </a:r>
            <a:r>
              <a:rPr b="0" lang="sr-CS" sz="2400" spc="-1" strike="noStrike">
                <a:solidFill>
                  <a:srgbClr val="000099"/>
                </a:solidFill>
                <a:latin typeface="Verdana"/>
              </a:rPr>
              <a:t>ћ</a:t>
            </a: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елиј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Код оваквих стања сви лекови који се метаболишу у јетри захтевају </a:t>
            </a:r>
            <a:r>
              <a:rPr b="1" lang="sr-Latn-CS" sz="2400" spc="-1" strike="noStrike">
                <a:solidFill>
                  <a:srgbClr val="000099"/>
                </a:solidFill>
                <a:latin typeface="Verdana"/>
              </a:rPr>
              <a:t>смањење дозе</a:t>
            </a: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, нај</a:t>
            </a:r>
            <a:r>
              <a:rPr b="0" lang="sr-CS" sz="2400" spc="-1" strike="noStrike">
                <a:solidFill>
                  <a:srgbClr val="000099"/>
                </a:solidFill>
                <a:latin typeface="Verdana"/>
              </a:rPr>
              <a:t>ч</a:t>
            </a: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ешће </a:t>
            </a:r>
            <a:r>
              <a:rPr b="1" lang="sr-Latn-CS" sz="2400" spc="-1" strike="noStrike">
                <a:solidFill>
                  <a:srgbClr val="000099"/>
                </a:solidFill>
                <a:latin typeface="Verdana"/>
              </a:rPr>
              <a:t>за 50 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11C2-31B3-45C8-8475-A8E24D67EDA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Приликом примене лекова код особа са</a:t>
            </a:r>
            <a:r>
              <a:rPr b="1" lang="ru-RU" sz="43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болелом јетром, треба се придржавати неколико принципа:</a:t>
            </a:r>
            <a:br>
              <a:rPr sz="43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По</a:t>
            </a: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ш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то се албумини стварају у јетри, њихова концентрација у крви </a:t>
            </a: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ћ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е бити сни</a:t>
            </a: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ж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ена код обољења јетре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Зато треба смањити дозу лекова који се у високом проценту везују за протеине  плазме (нпр. антидепресиви, нестероидни антиинфламаторни лекови, </a:t>
            </a:r>
            <a:r>
              <a:rPr b="0" lang="sr-CS" sz="2000" spc="-1" strike="noStrike">
                <a:solidFill>
                  <a:srgbClr val="000099"/>
                </a:solidFill>
                <a:latin typeface="Verdana"/>
              </a:rPr>
              <a:t>и</a:t>
            </a: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 др.), јер ће им слободна фракција бити неуобичајено велик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Пошто је само слободна фракција лека слободна, то значи да ће и њихов ефекат бити много већи, уколико им се доза не смањ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FF54-FDCA-4DDB-A3CC-4D463556FDD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Треба избегавати лекове који смањују коагулабилност крви , јер је синтеза фактора коагулације смањена код обољења јетре 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Тако</a:t>
            </a:r>
            <a:r>
              <a:rPr b="0" lang="sr-CS" sz="2400" spc="-1" strike="noStrike">
                <a:solidFill>
                  <a:srgbClr val="000099"/>
                </a:solidFill>
                <a:latin typeface="Verdana"/>
              </a:rPr>
              <a:t>ђ</a:t>
            </a: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е не треба давати лекове који могу неким другим начином изазвати крвављење 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нестероидне антиинфламаторне лекове , антиагрегационе лекове , селективне бл</a:t>
            </a:r>
            <a:r>
              <a:rPr b="0" lang="sr-CS" sz="2400" spc="-1" strike="noStrike">
                <a:solidFill>
                  <a:srgbClr val="000099"/>
                </a:solidFill>
                <a:latin typeface="Verdana"/>
              </a:rPr>
              <a:t>о</a:t>
            </a: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каторе преузимања серотонин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609480" y="0"/>
            <a:ext cx="79250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Приликом примене лекова код особа са оболелом јетром, треба се придржавати неколико принципа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BD13-FE11-4736-B743-CC13924EA21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Избегавати лекове са дејством на ЦНС  (посебно седативе ),јер могу провоцирати  појаву хепати</a:t>
            </a:r>
            <a:r>
              <a:rPr b="0" lang="sr-CS" sz="2000" spc="-1" strike="noStrike">
                <a:solidFill>
                  <a:srgbClr val="000099"/>
                </a:solidFill>
                <a:latin typeface="Verdana"/>
              </a:rPr>
              <a:t>ч</a:t>
            </a: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не енцефалопатије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Не давати леков</a:t>
            </a: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е 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који доводе до ретенције те</a:t>
            </a: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ч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ност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(вазодилататори , нестероидни антиинфламаторни лекови , кортикостероиди ) , јер могу погоршати асцитес и едем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Ако је потребно ублажити болове код болесника са инсуфицијенцијом јетре , не треба давати нестероидне антиинфламаторне лекове ( јер изазивају гастроинтестинално крварење) ,нити опиоиде ( јер се мо</a:t>
            </a:r>
            <a:r>
              <a:rPr b="0" lang="sr-CS" sz="2000" spc="-1" strike="noStrike">
                <a:solidFill>
                  <a:srgbClr val="000099"/>
                </a:solidFill>
                <a:latin typeface="Verdana"/>
              </a:rPr>
              <a:t>ж</a:t>
            </a: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е изазвати енцефалопатија )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Лек избора у тој ситуацији је парацетамол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Приликом примене лекова код особа са оболелом јетром, треба се придржавати неколико принципа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8FEE-75D0-482C-9172-A1454E97436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Пацијенти који имају ослабљену бубре</a:t>
            </a:r>
            <a:r>
              <a:rPr b="1" lang="sr-Latn-CS" sz="2000" spc="-1" strike="noStrike">
                <a:solidFill>
                  <a:srgbClr val="000099"/>
                </a:solidFill>
                <a:latin typeface="Verdana"/>
              </a:rPr>
              <a:t>ж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ну функцију сусре</a:t>
            </a:r>
            <a:r>
              <a:rPr b="1" lang="sr-Latn-CS" sz="2000" spc="-1" strike="noStrike">
                <a:solidFill>
                  <a:srgbClr val="000099"/>
                </a:solidFill>
                <a:latin typeface="Verdana"/>
              </a:rPr>
              <a:t>ћ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у се са неколико проблема када користе лекове 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66280" y="2184480"/>
            <a:ext cx="80010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Споро излу</a:t>
            </a: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ч</a:t>
            </a: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ују лекове и њихове метаболи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Постају осетљивији на дејство неких лекова од осталих особ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Те</a:t>
            </a: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ж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е подносе њихова не</a:t>
            </a: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ж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ељена дејств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Ови  проблеми се могу смањити или избе</a:t>
            </a: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ћ</a:t>
            </a: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и применом мањих доза лекова или њиховим правилним избором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Посебно је ва</a:t>
            </a: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ж</a:t>
            </a: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но одредити праву дозу лека код особа са бубре</a:t>
            </a: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ж</a:t>
            </a: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ном инсуфицијенцијом: она не сме бити ни превелика ни премала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612A-74D2-4FED-8B6A-48147FE38D4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3915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Пацијенти који имају ослабљену бубре</a:t>
            </a:r>
            <a:r>
              <a:rPr b="1" lang="sr-Latn-CS" sz="2000" spc="-1" strike="noStrike">
                <a:solidFill>
                  <a:srgbClr val="000099"/>
                </a:solidFill>
                <a:latin typeface="Verdana"/>
              </a:rPr>
              <a:t>ж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ну функцију сусре</a:t>
            </a:r>
            <a:r>
              <a:rPr b="1" lang="sr-Latn-CS" sz="2000" spc="-1" strike="noStrike">
                <a:solidFill>
                  <a:srgbClr val="000099"/>
                </a:solidFill>
                <a:latin typeface="Verdana"/>
              </a:rPr>
              <a:t>ћ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у се са неколико проблема када користе лекове 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Да се не би изра</a:t>
            </a: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ч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унавале дозе лекова за сваког болесника у бубре</a:t>
            </a: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ж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ној инсуфицијенцији , у пракси се користе табеле са већ израчунатим дозама лекова према категоријама бубрежне инсуфицијенције </a:t>
            </a: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блага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 : 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клиренс креатинина је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20-50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 мл/ми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Verdana"/>
              </a:rPr>
              <a:t>у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мерена</a:t>
            </a: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: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клиренс креатинина је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10-20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 мл/ми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Verdana"/>
              </a:rPr>
              <a:t>т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е</a:t>
            </a:r>
            <a:r>
              <a:rPr b="1" lang="sr-Latn-CS" sz="2000" spc="-1" strike="noStrike">
                <a:solidFill>
                  <a:srgbClr val="000099"/>
                </a:solidFill>
                <a:latin typeface="Verdana"/>
              </a:rPr>
              <a:t>ш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ка</a:t>
            </a: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: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клиренс креатинина је мањи од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10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 мл/ми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Код пацијената код којих је бубре</a:t>
            </a: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ж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на функција пала на нулу па се примењује дијализа, лекове треба давати тек после завр</a:t>
            </a: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ш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ене  дијализе јер у супротном лек мо</a:t>
            </a: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ж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е бити елиминисан пре него </a:t>
            </a: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ш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то запо</a:t>
            </a: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ч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не своје дејство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9AFC-B58B-438F-AE44-590217DAA70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Verdana"/>
              </a:rPr>
              <a:t>Инсуфицијенција срц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Verdana"/>
              </a:rPr>
              <a:t>Инсуфицијенција срца доводи до едема гастроинтестиналног тракта, што оте</a:t>
            </a:r>
            <a:r>
              <a:rPr b="0" i="1" lang="sr-Latn-CS" sz="2400" spc="-1" strike="noStrike">
                <a:solidFill>
                  <a:srgbClr val="000099"/>
                </a:solidFill>
                <a:latin typeface="Verdana"/>
              </a:rPr>
              <a:t>ж</a:t>
            </a:r>
            <a:r>
              <a:rPr b="0" i="1" lang="ru-RU" sz="2400" spc="-1" strike="noStrike">
                <a:solidFill>
                  <a:srgbClr val="000099"/>
                </a:solidFill>
                <a:latin typeface="Verdana"/>
              </a:rPr>
              <a:t>ава апсорпцију лекова. Зато понекад изостане ефекат орално примењених лекова, па лекар мора да пређе на парентералну примен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Verdana"/>
              </a:rPr>
              <a:t>С друге стране инсуфицијенција смањује проток крви кроз јетру па се може о</a:t>
            </a:r>
            <a:r>
              <a:rPr b="0" i="1" lang="sr-Latn-CS" sz="2400" spc="-1" strike="noStrike">
                <a:solidFill>
                  <a:srgbClr val="000099"/>
                </a:solidFill>
                <a:latin typeface="Verdana"/>
              </a:rPr>
              <a:t>ч</a:t>
            </a:r>
            <a:r>
              <a:rPr b="0" i="1" lang="ru-RU" sz="2400" spc="-1" strike="noStrike">
                <a:solidFill>
                  <a:srgbClr val="000099"/>
                </a:solidFill>
                <a:latin typeface="Verdana"/>
              </a:rPr>
              <a:t>екивати слабија елиминација лекова који се ина</a:t>
            </a:r>
            <a:r>
              <a:rPr b="0" i="1" lang="sr-Latn-CS" sz="2400" spc="-1" strike="noStrike">
                <a:solidFill>
                  <a:srgbClr val="000099"/>
                </a:solidFill>
                <a:latin typeface="Verdana"/>
              </a:rPr>
              <a:t>ч</a:t>
            </a:r>
            <a:r>
              <a:rPr b="0" i="1" lang="ru-RU" sz="2400" spc="-1" strike="noStrike">
                <a:solidFill>
                  <a:srgbClr val="000099"/>
                </a:solidFill>
                <a:latin typeface="Verdana"/>
              </a:rPr>
              <a:t>е брзо метаболи</a:t>
            </a:r>
            <a:r>
              <a:rPr b="0" i="1" lang="sr-Latn-CS" sz="2400" spc="-1" strike="noStrike">
                <a:solidFill>
                  <a:srgbClr val="000099"/>
                </a:solidFill>
                <a:latin typeface="Verdana"/>
              </a:rPr>
              <a:t>ш</a:t>
            </a:r>
            <a:r>
              <a:rPr b="0" i="1" lang="ru-RU" sz="2400" spc="-1" strike="noStrike">
                <a:solidFill>
                  <a:srgbClr val="000099"/>
                </a:solidFill>
                <a:latin typeface="Verdana"/>
              </a:rPr>
              <a:t>у у јетри (изониазид, лидокаин, пропранолол, морфин, пентазоцин, петидин), </a:t>
            </a:r>
            <a:r>
              <a:rPr b="0" i="1" lang="sr-Latn-CS" sz="2400" spc="-1" strike="noStrike">
                <a:solidFill>
                  <a:srgbClr val="000099"/>
                </a:solidFill>
                <a:latin typeface="Verdana"/>
              </a:rPr>
              <a:t>и </a:t>
            </a:r>
            <a:r>
              <a:rPr b="0" i="1" lang="ru-RU" sz="2400" spc="-1" strike="noStrike">
                <a:solidFill>
                  <a:srgbClr val="000099"/>
                </a:solidFill>
                <a:latin typeface="Verdana"/>
              </a:rPr>
              <a:t>пораст њхове серумске концентрациј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99"/>
                </a:solidFill>
                <a:latin typeface="Verdana"/>
              </a:rPr>
              <a:t>Томе доприноси смањење функције цитохром П450 оксидаз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511A-787D-4407-9356-9072CEE0492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Verdana"/>
              </a:rPr>
              <a:t>Инсуфицијенција срц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Код болесника са срчаном исунфицијенцијом посебно је рањива функција бубрега, јер је зависна од протока крви, који је у инсуфицијенцији ослабљен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Зато тако  пацијентима не треба давати лекове који инхибирају синтезу простагландин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( нестероидни антиинфламаторни лекови : ацетилсалицилна киселина, ибупрофен, диклофенак </a:t>
            </a:r>
            <a:r>
              <a:rPr b="0" lang="sr-CS" sz="2000" spc="-1" strike="noStrike">
                <a:solidFill>
                  <a:srgbClr val="000099"/>
                </a:solidFill>
                <a:latin typeface="Verdana"/>
              </a:rPr>
              <a:t>и</a:t>
            </a: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 др.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јер они могу додатно погоршати доток крви кроз бубреге  (који је завистан од локалне синтезе простагландина) и озбиљно оштетити екскреторну функцију бубрег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343D-7E25-45C3-ACF4-89EA59D9FCB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80880" y="1904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sl-SI" sz="2000" spc="-1" strike="noStrike">
                <a:solidFill>
                  <a:srgbClr val="000066"/>
                </a:solidFill>
                <a:latin typeface="Verdana"/>
              </a:rPr>
              <a:t>Лекови имају предвиђено </a:t>
            </a:r>
            <a:r>
              <a:rPr b="1" lang="sl-SI" sz="2000" spc="-1" strike="noStrike">
                <a:solidFill>
                  <a:srgbClr val="cc0000"/>
                </a:solidFill>
                <a:latin typeface="Verdana"/>
              </a:rPr>
              <a:t>терапијско дејство</a:t>
            </a:r>
            <a:r>
              <a:rPr b="1" lang="sl-SI" sz="2000" spc="-1" strike="noStrike">
                <a:solidFill>
                  <a:srgbClr val="000066"/>
                </a:solidFill>
                <a:latin typeface="Verdana"/>
              </a:rPr>
              <a:t>: тј. побољшање стања пацијента или спречавање настанка болести и ублажавање симптома</a:t>
            </a: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1" lang="sl-SI" sz="2000" spc="-1" strike="noStrike">
                <a:solidFill>
                  <a:srgbClr val="000066"/>
                </a:solidFill>
                <a:latin typeface="Verdana"/>
              </a:rPr>
              <a:t>Лекови могу да изазову </a:t>
            </a:r>
            <a:r>
              <a:rPr b="1" lang="sl-SI" sz="2000" spc="-1" strike="noStrike">
                <a:solidFill>
                  <a:srgbClr val="cc0000"/>
                </a:solidFill>
                <a:latin typeface="Verdana"/>
              </a:rPr>
              <a:t>грешке у лечењу</a:t>
            </a:r>
            <a:r>
              <a:rPr b="1" lang="sl-SI" sz="2000" spc="-1" strike="noStrike">
                <a:solidFill>
                  <a:srgbClr val="000066"/>
                </a:solidFill>
                <a:latin typeface="Verdana"/>
              </a:rPr>
              <a:t> и друге сличне проблеме који настају када 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66"/>
                </a:solidFill>
                <a:latin typeface="Verdana"/>
              </a:rPr>
              <a:t>пацијент узима лек без медицински валидне индикациј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66"/>
                </a:solidFill>
                <a:latin typeface="Verdana"/>
              </a:rPr>
              <a:t>пацијент прима погрешан лек ил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66"/>
                </a:solidFill>
                <a:latin typeface="Verdana"/>
              </a:rPr>
              <a:t>пацијент користи прави лек на погрешан начин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66"/>
                </a:solidFill>
                <a:latin typeface="Verdana"/>
              </a:rPr>
              <a:t>пацијент не добија лек који му треба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66"/>
                </a:solidFill>
                <a:latin typeface="Verdana"/>
              </a:rPr>
              <a:t>се испољавају нежељене реакције ле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66"/>
                </a:solidFill>
                <a:latin typeface="Verdana"/>
              </a:rPr>
              <a:t>лек који прима пацијент ступа у интеракције</a:t>
            </a:r>
            <a:r>
              <a:rPr b="0" lang="sr-Latn-CS" sz="1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2590920" y="838080"/>
            <a:ext cx="41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66"/>
                </a:solidFill>
                <a:latin typeface="Verdana"/>
              </a:rPr>
              <a:t>ЗАШТО СУ ЛЕКОВИ ВАЖН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Line 4"/>
          <p:cNvSpPr/>
          <p:nvPr/>
        </p:nvSpPr>
        <p:spPr>
          <a:xfrm flipH="1">
            <a:off x="7009920" y="571500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5"/>
          <p:cNvSpPr/>
          <p:nvPr/>
        </p:nvSpPr>
        <p:spPr>
          <a:xfrm flipH="1">
            <a:off x="7543440" y="601992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B9D0-9ABB-4E84-8080-34E9F764C49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800" spc="-1" strike="noStrike">
                <a:solidFill>
                  <a:srgbClr val="000099"/>
                </a:solidFill>
                <a:latin typeface="Verdana"/>
              </a:rPr>
              <a:t>Интракција лекова и хран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Тетрациклини и млечни производ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Варфарин и храна богата са витамином К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Сок од грејфрута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E710-E629-4F5A-A080-5E6FC76F559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400" spc="-1" strike="noStrike">
                <a:solidFill>
                  <a:srgbClr val="000099"/>
                </a:solidFill>
                <a:latin typeface="Verdana"/>
              </a:rPr>
              <a:t>Интеракција лекова и биља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Кантарион са индинавиром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Кантарион са циклоспорином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Кантарион са дигоксином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? </a:t>
            </a: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Многе друге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9C51-8C35-433F-9705-9F8B4727CE1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Verdana"/>
              </a:rPr>
              <a:t>Кантарион </a:t>
            </a: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смањује концентрације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Циклоспорина за 30-70 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Дигоксина за 25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Оралних контрацептива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96E0-6646-4881-A76C-994E608D8E1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Фармакокинетика        </a:t>
            </a:r>
            <a:r>
              <a:rPr b="1" lang="sr-CS" sz="2400" spc="-1" strike="noStrike">
                <a:solidFill>
                  <a:srgbClr val="000066"/>
                </a:solidFill>
                <a:latin typeface="Verdana"/>
              </a:rPr>
              <a:t>               </a:t>
            </a: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Фармакодинам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0" y="1828800"/>
            <a:ext cx="1752480" cy="914400"/>
          </a:xfrm>
          <a:prstGeom prst="rect">
            <a:avLst/>
          </a:prstGeom>
          <a:solidFill>
            <a:srgbClr val="69c3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66"/>
                </a:solidFill>
                <a:latin typeface="Verdana"/>
              </a:rPr>
              <a:t>Прописан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66"/>
                </a:solidFill>
                <a:latin typeface="Verdana"/>
              </a:rPr>
              <a:t>дозн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66"/>
                </a:solidFill>
                <a:latin typeface="Verdana"/>
              </a:rPr>
              <a:t>режи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2743200" y="1828800"/>
            <a:ext cx="2514600" cy="914400"/>
          </a:xfrm>
          <a:prstGeom prst="rect">
            <a:avLst/>
          </a:prstGeom>
          <a:solidFill>
            <a:srgbClr val="69c3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66"/>
                </a:solidFill>
                <a:latin typeface="Verdana"/>
              </a:rPr>
              <a:t>Лек на месту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66"/>
                </a:solidFill>
                <a:latin typeface="Verdana"/>
              </a:rPr>
              <a:t>деловањ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6705720" y="1828800"/>
            <a:ext cx="2057400" cy="838080"/>
          </a:xfrm>
          <a:prstGeom prst="rect">
            <a:avLst/>
          </a:prstGeom>
          <a:solidFill>
            <a:srgbClr val="69c3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66"/>
                </a:solidFill>
                <a:latin typeface="Tahoma"/>
              </a:rPr>
              <a:t>Ефекти ле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1828800" y="228600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5486400" y="228600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304920" y="3429000"/>
            <a:ext cx="3504960" cy="25934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Verdana"/>
              </a:rPr>
              <a:t>Комплијанс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Verdana"/>
              </a:rPr>
              <a:t>Правилно дозирањ</a:t>
            </a:r>
            <a:r>
              <a:rPr b="1" lang="sr-CS" sz="1800" spc="-1" strike="noStrike">
                <a:solidFill>
                  <a:srgbClr val="ffffff"/>
                </a:solidFill>
                <a:latin typeface="Verdana"/>
              </a:rPr>
              <a:t>е</a:t>
            </a:r>
            <a:r>
              <a:rPr b="1" lang="sr-Latn-CS" sz="1800" spc="-1" strike="noStrike">
                <a:solidFill>
                  <a:srgbClr val="ffffff"/>
                </a:solidFill>
                <a:latin typeface="Verdana"/>
              </a:rPr>
              <a:t> и грешк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Verdana"/>
              </a:rPr>
              <a:t>Апсорпциј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Verdana"/>
              </a:rPr>
              <a:t>Маса и волумен телесних теч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Verdana"/>
              </a:rPr>
              <a:t>Интеракције леко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Verdana"/>
              </a:rPr>
              <a:t>Елиминациј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Verdana"/>
              </a:rPr>
              <a:t>Процеси</a:t>
            </a:r>
            <a:r>
              <a:rPr b="1" lang="sr-C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sr-Latn-CS" sz="1800" spc="-1" strike="noStrike">
                <a:solidFill>
                  <a:srgbClr val="ffffff"/>
                </a:solidFill>
                <a:latin typeface="Verdana"/>
              </a:rPr>
              <a:t>метаболизма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5638680" y="3429000"/>
            <a:ext cx="3276720" cy="25909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Verdana"/>
              </a:rPr>
              <a:t>Статус рецепто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Verdana"/>
              </a:rPr>
              <a:t>Генетск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sr-Latn-CS" sz="1800" spc="-1" strike="noStrike">
                <a:solidFill>
                  <a:srgbClr val="ffffff"/>
                </a:solidFill>
                <a:latin typeface="Verdana"/>
              </a:rPr>
              <a:t>предиспозициј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Verdana"/>
              </a:rPr>
              <a:t>Интеракциј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Verdana"/>
              </a:rPr>
              <a:t>Толеранциј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Verdana"/>
              </a:rPr>
              <a:t>Узрас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Verdana"/>
              </a:rPr>
              <a:t>Посебне популациј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C8E7-9F0F-4745-87FF-F802F2C04A2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800" spc="-1" strike="noStrike">
                <a:solidFill>
                  <a:srgbClr val="000066"/>
                </a:solidFill>
                <a:latin typeface="Verdana"/>
              </a:rPr>
              <a:t>Интеракција</a:t>
            </a:r>
            <a:r>
              <a:rPr b="1" lang="sr-CS" sz="3800" spc="-1" strike="noStrike">
                <a:solidFill>
                  <a:srgbClr val="000066"/>
                </a:solidFill>
                <a:latin typeface="Verdana"/>
              </a:rPr>
              <a:t> ле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0066"/>
                </a:solidFill>
                <a:latin typeface="Verdana"/>
              </a:rPr>
              <a:t>је промена фармакокинетичких или фармакодинамичких својстава лека узрокованих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191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66"/>
                </a:solidFill>
                <a:latin typeface="Verdana"/>
              </a:rPr>
              <a:t>истовременом применом другог лека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191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66"/>
                </a:solidFill>
                <a:latin typeface="Verdana"/>
              </a:rPr>
              <a:t>хране, ил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191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66"/>
                </a:solidFill>
                <a:latin typeface="Verdana"/>
              </a:rPr>
              <a:t>неке друге</a:t>
            </a:r>
            <a:r>
              <a:rPr b="1" lang="sr-CS" sz="2600" spc="-1" strike="noStrike">
                <a:solidFill>
                  <a:srgbClr val="000066"/>
                </a:solidFill>
                <a:latin typeface="Verdana"/>
              </a:rPr>
              <a:t> супстанц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38A8-52B8-412F-83EF-92C1B2685F6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800" spc="-1" strike="noStrike">
                <a:solidFill>
                  <a:srgbClr val="000066"/>
                </a:solidFill>
                <a:latin typeface="Verdana"/>
              </a:rPr>
              <a:t>Зашто су важне</a:t>
            </a:r>
            <a:r>
              <a:rPr b="1" lang="sr-CS" sz="3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0066"/>
                </a:solidFill>
                <a:latin typeface="Verdana"/>
              </a:rPr>
              <a:t>Интеракције лекова чине </a:t>
            </a:r>
            <a:r>
              <a:rPr b="1" lang="ru-RU" sz="3000" spc="-1" strike="noStrike">
                <a:solidFill>
                  <a:srgbClr val="000066"/>
                </a:solidFill>
                <a:latin typeface="Verdana"/>
              </a:rPr>
              <a:t>3–5% </a:t>
            </a:r>
            <a:r>
              <a:rPr b="1" lang="sr-Latn-CS" sz="3000" spc="-1" strike="noStrike">
                <a:solidFill>
                  <a:srgbClr val="000066"/>
                </a:solidFill>
                <a:latin typeface="Verdana"/>
              </a:rPr>
              <a:t>интрахоспиталних НРЛ које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sr-Latn-CS" sz="3000" spc="-1" strike="noStrike">
                <a:solidFill>
                  <a:srgbClr val="ff0066"/>
                </a:solidFill>
                <a:latin typeface="Verdana"/>
              </a:rPr>
              <a:t>се могу спречит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D422-E27D-4511-B301-C8750E2FDCA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66"/>
                </a:solidFill>
                <a:latin typeface="Verdana"/>
              </a:rPr>
              <a:t>Када се јављају интеракције ?</a:t>
            </a:r>
            <a:r>
              <a:rPr b="0" lang="sr-Latn-CS" sz="3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Могу се јавити </a:t>
            </a:r>
            <a:r>
              <a:rPr b="1" lang="sr-Latn-CS" sz="2400" spc="-1" strike="noStrike">
                <a:solidFill>
                  <a:srgbClr val="cc0000"/>
                </a:solidFill>
                <a:latin typeface="Verdana"/>
              </a:rPr>
              <a:t>пре</a:t>
            </a: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 или</a:t>
            </a:r>
            <a:r>
              <a:rPr b="1" lang="sr-Latn-CS" sz="2400" spc="-1" strike="noStrike">
                <a:solidFill>
                  <a:srgbClr val="cc0000"/>
                </a:solidFill>
                <a:latin typeface="Verdana"/>
              </a:rPr>
              <a:t> после</a:t>
            </a: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 примене лек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Verdana"/>
              </a:rPr>
              <a:t>фармакокинетске интеракциј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гастроинтестинални трак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плазм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јетр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бубрег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Verdana"/>
              </a:rPr>
              <a:t>фармакодинамске интеракције</a:t>
            </a: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циљни орган</a:t>
            </a: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FF99-46C4-4A3C-957C-EACB084B844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Интеракције међу лекови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Корисне и нежељене последиц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Механизми настанка интеракциј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Фармацеутске интеракције - ван организ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Фармакокинетичке интеракције (један лек мења фармакокинетичке процесе другог лек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Фармакодинамс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B9AF-C1BF-4333-B6B5-C877C300C28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Примена већег броја леко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Оправдано када повећава терапијску ефикасност или безбедност примен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Адитивни синергизам </a:t>
            </a:r>
            <a:r>
              <a:rPr b="1" lang="sr-Latn-CS" sz="2400" spc="-1" strike="noStrike">
                <a:solidFill>
                  <a:srgbClr val="cc0000"/>
                </a:solidFill>
                <a:latin typeface="Verdana"/>
              </a:rPr>
              <a:t>1+1=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Супраадитивни синергизам </a:t>
            </a:r>
            <a:r>
              <a:rPr b="1" lang="sr-Latn-CS" sz="2400" spc="-1" strike="noStrike">
                <a:solidFill>
                  <a:srgbClr val="cc0000"/>
                </a:solidFill>
                <a:latin typeface="Verdana"/>
              </a:rPr>
              <a:t>1+1=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Потенцијација </a:t>
            </a:r>
            <a:r>
              <a:rPr b="1" lang="sr-Latn-CS" sz="2400" spc="-1" strike="noStrike">
                <a:solidFill>
                  <a:srgbClr val="cc0000"/>
                </a:solidFill>
                <a:latin typeface="Verdana"/>
              </a:rPr>
              <a:t>1+0=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Антагонизам </a:t>
            </a:r>
            <a:r>
              <a:rPr b="1" lang="sr-Latn-CS" sz="2400" spc="-1" strike="noStrike">
                <a:solidFill>
                  <a:srgbClr val="cc0000"/>
                </a:solidFill>
                <a:latin typeface="Verdana"/>
              </a:rPr>
              <a:t>1+1=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09:00:34Z</dcterms:created>
  <dc:creator>Acer</dc:creator>
  <dc:description/>
  <dc:language>en-US</dc:language>
  <cp:lastModifiedBy>User</cp:lastModifiedBy>
  <dcterms:modified xsi:type="dcterms:W3CDTF">2019-09-12T21:53:17Z</dcterms:modified>
  <cp:revision>28</cp:revision>
  <dc:subject/>
  <dc:title>Интеракције лекова</dc:title>
</cp:coreProperties>
</file>